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cashreg.wav" ContentType="audio/x-wav"/>
  <Override PartName="/ppt/media/camera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0987-7112-47A2-9FC9-EF870B1ED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2043-4A4B-43C0-99CA-3F349050B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52AE-60AD-4FAB-BDF8-C28782CCB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9235-36F4-4640-B71F-611722951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248C-4961-4A53-A8EB-600A4E08E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AF60-76C5-4DF0-BD0E-19ADE2CE6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3C50-6A1E-49C9-8597-BB03E66AD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BDB5-000E-4E22-B6AC-E8ECDB931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B7EC-3E09-4A3C-A2F0-57E7F1F13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61CD-35B2-4913-B6EF-B9524EE6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9AE0-FB71-4EF6-8AF6-112A70AC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DBB5-FAB2-49C4-9021-ADFDDAA5E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0AE46-184C-4CA0-8942-0A5DE4112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nry’s Freedom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old:Shakiyah 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505320" y="0"/>
            <a:ext cx="2971800" cy="2057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5011560"/>
            <a:ext cx="2666880" cy="1846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  <p:sndAc>
      <p:stSnd>
        <p:snd r:embed="rId4" name="cashreg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201 0.23006 C -0.09531 0.2296 -0.10851 0.22983 -0.11424 0.2259 C -0.12483 0.21873 -0.13333 0.20324 -0.14427 0.19838 C -0.17708 0.19907 -0.2099 0.19907 -0.24271 0.20046 C -0.24983 0.20069 -0.24566 0.20301 -0.25069 0.20694 C -0.25538 0.21064 -0.26111 0.21202 -0.26649 0.21318 C -0.29687 0.21988 -0.32014 0.22613 -0.35226 0.22798 C -0.36094 0.23168 -0.36875 0.23445 -0.3776 0.23653 C -0.38177 0.23861 -0.38646 0.23977 -0.39028 0.24277 C -0.40122 0.25133 -0.38524 0.24324 -0.39826 0.24902 C -0.40781 0.26173 -0.41649 0.27561 -0.42535 0.28925 C -0.43281 0.30081 -0.42361 0.29156 -0.43316 0.29988 C -0.4342 0.30266 -0.43507 0.30566 -0.43646 0.30821 C -0.43733 0.30983 -0.43889 0.31075 -0.43958 0.3126 C -0.44358 0.32185 -0.44479 0.33017 -0.45069 0.3378 C -0.45122 0.34127 -0.45104 0.34497 -0.45226 0.34844 C -0.4533 0.35098 -0.45573 0.35237 -0.45694 0.35491 C -0.46562 0.37225 -0.44792 0.34705 -0.46337 0.36948 C -0.47118 0.38104 -0.47587 0.38358 -0.47917 0.39699 C -0.4658 0.45202 -0.39253 0.40902 -0.34913 0.40971 C -0.33594 0.41503 -0.32604 0.4185 -0.3125 0.42659 C -0.31007 0.42798 -0.30868 0.43144 -0.30625 0.43306 C -0.3033 0.43514 -0.29983 0.43584 -0.2967 0.43723 C -0.2941 0.44 -0.29167 0.44347 -0.28872 0.44578 C -0.28524 0.44855 -0.2809 0.44902 -0.2776 0.45202 C -0.26545 0.46289 -0.26111 0.47168 -0.24913 0.47954 C -0.24323 0.49087 -0.23351 0.49503 -0.22535 0.50289 C -0.21597 0.51191 -0.21111 0.52116 -0.19983 0.52601 C -0.19184 0.53318 -0.18576 0.54474 -0.1776 0.55144 C -0.16806 0.55954 -0.15573 0.56301 -0.14583 0.5704 C -0.1408 0.5741 -0.13628 0.57873 -0.1316 0.58312 C -0.1276 0.58682 -0.12656 0.59538 -0.12205 0.59792 C -0.11858 0.6 -0.11458 0.60069 -0.11094 0.60208 C -0.1099 0.60324 -0.1033 0.61179 -0.10312 0.61457 C -0.10226 0.62682 -0.10486 0.62844 -0.10781 0.63792 C -0.11424 0.65873 -0.12309 0.6578 -0.13472 0.67191 C -0.14757 0.68717 -0.13437 0.67353 -0.15069 0.69526 C -0.15417 0.69965 -0.15833 0.70312 -0.16181 0.70775 C -0.16424 0.71075 -0.16562 0.71538 -0.16806 0.71838 C -0.18906 0.74381 -0.21424 0.74751 -0.24115 0.75006 C -0.2934 0.74821 -0.41823 0.80462 -0.45382 0.70983 C -0.45538 0.69896 -0.45868 0.69087 -0.46181 0.68046 C -0.46233 0.67607 -0.46267 0.67191 -0.46337 0.66775 C -0.46424 0.66312 -0.46649 0.65503 -0.46649 0.65526 C -0.46094 0.62289 -0.46042 0.6259 -0.44757 0.60208 C -0.41372 0.53873 -0.37344 0.51538 -0.3158 0.50705 C -0.27309 0.5089 -0.28038 0.50104 -0.25694 0.51538 C -0.24028 0.52555 -0.22326 0.54196 -0.20781 0.55561 C -0.19878 0.5637 -0.19462 0.57549 -0.18403 0.57873 C -0.17344 0.58798 -0.15781 0.59237 -0.14583 0.59792 C -0.13507 0.60231 -0.1316 0.61919 -0.12205 0.62335 C -0.11684 0.63723 -0.12187 0.62705 -0.11424 0.63607 C -0.11146 0.63907 -0.10625 0.64647 -0.10625 0.6467 C -0.10816 0.65665 -0.11024 0.66035 -0.1158 0.66775 C -0.11684 0.67191 -0.11788 0.67607 -0.11892 0.68046 C -0.11962 0.68347 -0.11719 0.68601 -0.1158 0.68855 C -0.11441 0.69133 -0.11233 0.69272 -0.11094 0.69526 C -0.10781 0.70081 -0.10573 0.70798 -0.10312 0.71422 C -0.10191 0.71699 -0.10069 0.71977 -0.09983 0.72231 C -0.09913 0.72439 -0.09896 0.72694 -0.09826 0.72902 C -0.09444 0.73942 -0.09583 0.73156 -0.09028 0.74173 C -0.08889 0.74405 -0.08854 0.74751 -0.08715 0.75006 C -0.07969 0.76254 -0.0691 0.7711 -0.06024 0.7815 C -0.05608 0.78659 -0.05122 0.79514 -0.04583 0.79884 C -0.03819 0.8037 -0.02899 0.80208 -0.02049 0.80301 C 0.00278 0.80162 0.02622 0.80208 0.04931 0.79884 C 0.05573 0.79792 0.05955 0.78821 0.06528 0.78381 C 0.07934 0.7741 0.09132 0.76301 0.10486 0.75214 C 0.11528 0.7341 0.12552 0.71861 0.13194 0.69711 C 0.13524 0.6867 0.14132 0.66566 0.14132 0.6659 C 0.14965 0.59514 0.15382 0.52578 0.15573 0.4541 C 0.15521 0.42312 0.15521 0.39191 0.15417 0.36116 C 0.15399 0.35723 0.1526 0.35422 0.15243 0.35052 C 0.15035 0.2978 0.15017 0.25017 0.13819 0.20046 C 0.13767 0.18821 0.13767 0.15538 0.13351 0.13919 C 0.13003 0.12555 0.12413 0.11168 0.1191 0.09896 E">
                                      <p:cBhvr>
                                        <p:cTn id="6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333399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out Hen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nry did not know how old he was because sl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nry had brothers and sisters and he had his mom with hi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 master was ill so  his master sold him to his 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  <p:sndAc>
      <p:stSnd>
        <p:snd r:embed="rId2" name="camera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59539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Hen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orked in his new master’s fac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tear tobacco leaf for his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met a girl named Nanc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alked and talk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ths later he asked Nancy to be his wife but they had to ask there ma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masters YES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m and Nancy had 3 k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lived together even they had different ma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848720" y="5029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59539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99cc00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out Nancy and Hen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ncy was worried her master had lost  a great deal of money she was worried that her and her kids would get s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ry got st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ry worked hard to forget what Nancy sa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 friend James came into the factory he whispered to Henry your wife and kids have been s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534520" y="6400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96534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839080" y="6629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93714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ff00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19720" y="37101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93714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2T19:18:26Z</dcterms:created>
  <dc:creator>test</dc:creator>
  <dc:description/>
  <dc:language>en-US</dc:language>
  <cp:lastModifiedBy>test</cp:lastModifiedBy>
  <dcterms:modified xsi:type="dcterms:W3CDTF">2011-03-30T18:17:47Z</dcterms:modified>
  <cp:revision>9</cp:revision>
  <dc:subject/>
  <dc:title>Henry’s Freedom Box</dc:title>
</cp:coreProperties>
</file>